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3FD-D614-48A2-BFA9-3AB2D268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EA7-D5AC-4740-99A4-52303F69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811347-495B-4C8A-88AF-B30A651D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EEF0FD-E5CB-4BED-80EC-9F44D384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8987F4-4C99-4427-A1C5-A1B70E7B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B3EE98-D53B-4707-A445-18BD12A7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5345AB-A340-43F4-AC96-F87603B2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3FD851-D267-4421-9ADC-9E8F9126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8AB5E7-0428-433A-B597-4AD901D3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ED6DD7-198C-41B2-8404-25D97C22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D6AFC6-5B4E-4CCB-91B7-E44EA0D6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199D2-C60D-4BB5-8B0C-B3835DA2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C4D-C316-422A-B94D-A14C00B0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4F16B-4606-4653-A43D-04E9D016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B46A7-C81E-4372-B292-EAD67F5D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563DA-4241-417E-8852-D1AE01FA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99077-E668-4BBB-8155-4D7735EA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68776-F575-456A-82DE-0278CA6F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EF4EA-2BCB-4158-B710-805D2062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3FF66-AD49-4EA3-82F6-1CCD71ED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692A0-096A-44F0-9D99-633D9A93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2CC2A-BE0B-43F8-AACC-40E2A5C6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BCC1B-71E6-4D59-A316-543478E8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A61-F6D9-4CB0-8DD2-A6BC28C5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CE0DB-EA4F-4E70-9163-E59E849A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50E8E-8912-4B3F-8A1A-5FBB01F6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FEE0A-E001-4CBF-9931-065008FE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F2484-59C2-4B85-A1FF-CFCD837A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7D27A-DC98-4630-BB0A-3CEA9226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EE000-90FD-4CA8-9271-E07EB578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ED4D0-3093-4545-B348-03B2D48F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03680-FE64-49D2-906B-A9D72B08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22035-96D3-4121-87B3-F5B8ACEB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23538-EF70-4039-B1C3-058B8678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00139-BE5F-493E-979C-EBAE9166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D4968-5A4D-4594-A596-20B38179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94934-30D2-43E8-B60F-0457E812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86F16-09BD-4166-9C1F-1D04778B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5795B-9491-4ADF-AD55-ED80501B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E1996-B8B1-4B19-84A4-CF677A5D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C163F-F4CB-414E-B665-C4257BD2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C4CA5-B795-4250-8811-B9360680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FA3F1-18D0-4EE1-B66E-39CDA46E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ADF9A-45C6-4142-9EB8-1A46C113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1AB0C-2405-40B1-8264-4E106EFA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E937A-C05A-4BFC-B312-58A6FA15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A5E73-6CC7-454A-8C36-0D45328F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DD817-779C-4795-8D7B-833DC4DC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13E5E-A5FA-4CA9-A10E-BB87E023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274F2-B559-4876-BA17-D4C6E445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6F695-B7EF-45FA-9527-8C22DBBC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C63B6-BA82-44EE-9F5C-C5CC9766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AF839-081C-491C-8054-E1002B4D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BD605-391E-4EFF-B848-C5892AE4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C22B4-6CA9-4E57-8C12-18EE1D21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54048-915D-4ED0-8F64-9E54B85F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E7D29-FDFB-45E2-9967-02843920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B2574-CE9B-42CC-889C-AF4D50FB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94C21-D1D2-46FF-91D9-18298C22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8FAE1-6DE0-465E-B814-A37EF655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5CA4A-DB1C-46C3-A1D4-45E74364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E16AE-B9A1-4967-9C13-5445519E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37425-0345-4558-81D7-22BB5D0A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0B829-9FA5-4146-BC63-02FD744F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786939-18CB-4632-BEBE-FF526052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508509-8BC6-40C8-A9E0-930544CC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E501A-33F9-4656-9481-5B473787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AD93D-E8D8-46D8-A4B4-947837E6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53CE2-881C-49A7-B679-2788206A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F113D6-92F7-429F-A55D-0E74E3CF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292DE-492A-4607-9FAB-7F7C99EA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FD1027-48FD-44D7-8980-C2AF340B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5CBA7C-7D93-4832-97E5-B6F9D85C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F76D1-4986-430D-B965-E690111D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8136F-4E1D-4E33-A21F-7F4769B9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0353F-DC8D-471F-8310-9B0E7F7B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FEB8B-AC8B-463E-B713-32AC9913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48D2AA-2FC3-4B97-BABE-D0D25365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E8AC5-5B36-470F-A57B-F987EDA2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9F70B-81DA-4057-A048-70687197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19BE9-64B9-4B53-A995-F444BDF5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B85892-65F9-4732-947F-18B30DC2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AC3A93-B4FC-415A-A203-29977E3A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C99C26-C7EF-4033-867B-0AEA7DE0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0B2895-FB3F-4AA8-91DF-043BD117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84A06-16E0-4A63-AA9B-18ABD8BB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E901A2-62E3-4971-967E-A68301D4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93C225-E73E-4359-83D3-0CA448D5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469AF-C242-4E72-887C-24EA69A2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0B7FC-90B1-4CFB-B409-35F55437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25EA5-7B73-4886-872F-89DB47D6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41AB6-2ED4-40C7-864A-129D182A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9E4619-183A-46A5-97FB-A261B4FE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6EE76-9C50-4252-91A7-7DE84386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BEE6BB-8EA6-4AA3-8677-9BE24D12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37A71-C05B-4322-A4A8-F9604DBC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8107F2-6B91-422F-9D72-97A9A96E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39FA8-8FAB-45F9-B15B-6D099396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049F0E-B3CF-48AD-8CCD-290B15C6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2774F3-C3DF-4D8B-96DD-B03CB6D8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B696C-D773-4690-AFCA-1C8A8A2F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B41D9-8D54-43CC-90CF-F2F85EE1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2EB39-CC95-4B3D-B288-27717E97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3D8C9C-A91E-4FC3-8E19-B9569B28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60DA38-0593-4106-9A26-4E4D3562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5DF166-5C2E-48BC-A9F4-9696DEEF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CE15E7-640E-44EC-BB70-D264F111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959FFF-8635-4E17-BED6-57322948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129E67-87F8-4A9D-BDC1-356D91B2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4CB1CE-43F3-4CB5-A8CA-9CC4FB1F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4E5F8F-BC9B-405B-A30E-23460BD0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AF2-D70C-465C-8EB2-1231273B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2C0F7-3998-4737-BDA8-1EE6B7BC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5E3A12-9B41-4FE4-9630-58B5F5B7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149C95-E6B1-4950-A01D-CC51E948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380735-5332-42B9-9F63-FC888AFB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259FBA2-C746-4474-A6C5-4A6E96DA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9F4C2D-6423-40F8-AFAF-864DA3D6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9BFE4-0613-4EA3-84A7-59DEDA1B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714D3-9298-4BF9-B5BD-2CB690B2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2F64D-3961-4FEA-8D89-F0492B70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17E29-5C01-4655-A3AD-D4D67311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4F4B-BCE9-430F-B65B-17CBCD50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99754-5AC0-4348-87E0-3CD55A9E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364A0-0B6B-454C-9C76-77137B81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564A9-665B-4596-99AE-318B356F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0EACB-365A-4EB1-8C50-C46B08B1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3ED-AE97-44B1-BF1F-754178D3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91CCA-F296-42D6-8048-76D4FE0B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B86C-DBB7-4E33-89E1-A0B68F74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BC48-B972-404B-9BDF-DF0538B0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CD52F-AF0D-4FB5-9B50-88F236F8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ED34-CB44-4FE6-93AA-88FDE5A1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DF652-B2B4-4E89-8F04-DDBEA2C5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742C1-A3EF-45F6-9FD0-E97144FC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2DF4B-575E-41A2-A9ED-66DF0546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EF430-68BD-4231-BDB5-1416CE1C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01F78-D576-4359-9E38-7B132C9A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6E6-5FAE-4D7D-85A8-5DED364B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A954-F26B-482E-BD2D-D313996E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26E4F-1687-407B-B847-E8239BB9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21114-7129-48EB-87F5-5FC4DA55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F7EF6-1647-4FBF-92DB-F6CABF8F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BF0F6-1002-48EF-8DAA-DB7FC0C3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2D6AF-8C5A-498C-B6FC-96B955B5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A4D5A-1475-468F-B759-8C57347C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8F697-5FF1-43AA-AE30-9F2ED86F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033F4-0063-4512-AFCF-000C35FA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0A4A7-4C17-4B09-9C43-F06A2028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A5D-F37F-4580-8D04-B3A86F46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A7DB0-ABF2-4F95-A179-A95919FB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00914-0CF5-41E2-B119-5EF630FB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21366-1675-4192-8E35-5E25CFB7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FEA77-4226-4D9D-98FD-F9FAA809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0F4C0-AE69-4C63-A6ED-8EE0403B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0370E-409B-406E-ABAB-B57E3808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BB321-EEE0-4174-B86A-86974D36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5E171-22BE-496D-818A-2E3BEF70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3D0F1-140F-4538-A2A1-803620BD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96CA9-01EF-4523-8A65-8F00224C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BF9-29A4-4A6D-86D1-97E0663A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6C1DC-94CA-4E24-81F5-06BF098F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E4F94-0518-4363-87E9-D46051A8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830C6-CFC2-4237-99D4-41908857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DEB20-52BB-459C-BBA2-8E625A65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7FD6B-9A2A-4FD6-ADF9-409A7D4F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27E08-384D-4625-B2F4-207321A8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FB116-6287-4D24-8537-E3455E1E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695CB-28D5-4911-AB0D-9D2367B3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945D7-A801-416D-A3C6-228FF619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D0E3C-44EB-4C81-AD05-4024C654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386-9AD6-43AA-AF1F-0EACA8FE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D3343-FC63-4393-AB0D-EFAAAD9F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0DFF3-79CD-4E1D-9C13-419D0ECB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0A412-C3F0-4CF3-B5CD-DE8E675E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B4361-870E-4338-BCBE-B76B5AD8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6799F-0AD3-4CED-9D5B-878A41CC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DF950-D3C3-4E80-8671-B055886E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EE3AF-0C53-4D0D-A3D8-636E0D9C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CFD99-74D3-46F8-BA9F-E5F1795F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6DF8B-4B3A-455B-95DF-C2CCDF0F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B3081-5649-417D-A954-F488972B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4AF-02C3-40D6-B2E9-D2047A44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96D42-32CA-4D12-8D26-8DC9ADC2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AC091-921E-4237-B39B-09E018D4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45B97-16DC-47C8-BD68-470E7D6F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52D6F-E098-4208-81A0-A15CF127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15E18-A4A3-43BE-8AEF-4BD321F9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EDE55-2898-4858-AF5D-6ECEB218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6DA30-43D7-42AF-8C44-C25A9ACA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23052-96F7-4704-989B-F26C406A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A066A-0656-4A80-8C13-7DBACAF9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8F43C-1DBE-4782-A98C-6C422802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1E8-404E-4DA8-9EE8-4F5D4764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A402D-D2C2-4389-A461-E49D0885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1BA5B-AB2B-4B03-A00B-F36A51E5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BAF0C-AA5E-4A6E-94E1-43797C18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9F40B-CDDD-4BD0-AF6E-FB651718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E5CBD-225B-411B-BEB4-7FB04C38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7B0B9-6CF9-432B-87A1-446CEB06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C49B2-E2B5-4B2F-8DD0-8777774B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59CDAC-99AD-45D8-A753-10429438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7EB5A5-D21D-43DA-B631-6D7CCF2B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77B291-E5F0-4707-A416-F9A4048C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E042-488D-4D01-95CB-DDA2DA04B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9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460E-56DD-4C5C-9342-6E2FDADAA0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1066680" y="2995560"/>
            <a:ext cx="8077320" cy="3862440"/>
          </a:xfrm>
          <a:prstGeom prst="rect">
            <a:avLst/>
          </a:prstGeom>
          <a:gradFill rotWithShape="0">
            <a:gsLst>
              <a:gs pos="0">
                <a:srgbClr val="060833"/>
              </a:gs>
              <a:gs pos="100000">
                <a:srgbClr val="1822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0" y="2995560"/>
            <a:ext cx="1066680" cy="3862440"/>
          </a:xfrm>
          <a:prstGeom prst="rect">
            <a:avLst/>
          </a:prstGeom>
          <a:gradFill rotWithShape="0">
            <a:gsLst>
              <a:gs pos="0">
                <a:srgbClr val="0305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7"/>
          <p:cNvGrpSpPr/>
          <p:nvPr/>
        </p:nvGrpSpPr>
        <p:grpSpPr>
          <a:xfrm>
            <a:off x="0" y="1905120"/>
            <a:ext cx="6172200" cy="2438280"/>
            <a:chOff x="0" y="1905120"/>
            <a:chExt cx="6172200" cy="2438280"/>
          </a:xfrm>
        </p:grpSpPr>
        <p:sp>
          <p:nvSpPr>
            <p:cNvPr id="658" name="Oval 8"/>
            <p:cNvSpPr/>
            <p:nvPr/>
          </p:nvSpPr>
          <p:spPr>
            <a:xfrm>
              <a:off x="789120" y="269388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80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9"/>
            <p:cNvSpPr/>
            <p:nvPr/>
          </p:nvSpPr>
          <p:spPr>
            <a:xfrm>
              <a:off x="942840" y="286056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10"/>
            <p:cNvSpPr/>
            <p:nvPr/>
          </p:nvSpPr>
          <p:spPr>
            <a:xfrm>
              <a:off x="0" y="299088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11"/>
            <p:cNvSpPr/>
            <p:nvPr/>
          </p:nvSpPr>
          <p:spPr>
            <a:xfrm>
              <a:off x="1076400" y="190512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12"/>
            <p:cNvSpPr/>
            <p:nvPr/>
          </p:nvSpPr>
          <p:spPr>
            <a:xfrm>
              <a:off x="1144440" y="299088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25EE-5CB8-4113-9BE5-79BF4BB4F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05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Group 4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707" name="Group 5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708" name="Oval 6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Oval 7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8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Oval 8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ccf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Oval 9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Oval 10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Oval 11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Oval 12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Oval 13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6" name="Oval 14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Oval 15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Oval 16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Oval 17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Oval 18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Freeform 19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Freeform 20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Freeform 21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Freeform 22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Freeform 23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Oval 53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Group 54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757" name="Oval 55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Oval 56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8ce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Oval 57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Oval 58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Oval 59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Oval 60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4dd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64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966A-7FEE-42E4-A646-F96B00DE18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8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Group 4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812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Freeform 10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20720" indent="-2772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08440" indent="-2214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551960" indent="-2214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3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13E3-BAC9-417F-8B6B-FDA565B5B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6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6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8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0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0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9F9F-682C-49A0-B89F-01EAE1FEC8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6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C9FA-B7A2-441B-BE35-6780E85A1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Group 2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1026" name="AutoShape 3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4949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4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Group 5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1029" name="AutoShape 6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5712"/>
                </a:gs>
                <a:gs pos="50000">
                  <a:srgbClr val="ff7518"/>
                </a:gs>
                <a:gs pos="100000">
                  <a:srgbClr val="bd5712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AutoShape 7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AutoShape 13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AutoShape 14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6288-9FD6-4107-AD65-DC0DC9C52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2"/>
          <p:cNvGrpSpPr/>
          <p:nvPr/>
        </p:nvGrpSpPr>
        <p:grpSpPr>
          <a:xfrm>
            <a:off x="762120" y="304200"/>
            <a:ext cx="8076960" cy="6325200"/>
            <a:chOff x="762120" y="304200"/>
            <a:chExt cx="8076960" cy="6325200"/>
          </a:xfrm>
        </p:grpSpPr>
        <p:sp>
          <p:nvSpPr>
            <p:cNvPr id="1075" name="AutoShape 3"/>
            <p:cNvSpPr/>
            <p:nvPr/>
          </p:nvSpPr>
          <p:spPr>
            <a:xfrm>
              <a:off x="762120" y="304920"/>
              <a:ext cx="8076960" cy="6324480"/>
            </a:xfrm>
            <a:prstGeom prst="roundRect">
              <a:avLst>
                <a:gd name="adj" fmla="val 2699"/>
              </a:avLst>
            </a:prstGeom>
            <a:solidFill>
              <a:srgbClr val="b1c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AutoShape 4"/>
            <p:cNvSpPr/>
            <p:nvPr/>
          </p:nvSpPr>
          <p:spPr>
            <a:xfrm flipV="1" rot="5400000">
              <a:off x="4724280" y="-3658320"/>
              <a:ext cx="152280" cy="80769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25d48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AutoShape 5"/>
            <p:cNvSpPr/>
            <p:nvPr/>
          </p:nvSpPr>
          <p:spPr>
            <a:xfrm rot="16200000">
              <a:off x="-2171520" y="3390840"/>
              <a:ext cx="5943600" cy="75960"/>
            </a:xfrm>
            <a:custGeom>
              <a:avLst/>
              <a:gdLst>
                <a:gd name="textAreaLeft" fmla="*/ 1458720 w 5943600"/>
                <a:gd name="textAreaRight" fmla="*/ 4484880 w 5943600"/>
                <a:gd name="textAreaTop" fmla="*/ 19080 h 75960"/>
                <a:gd name="textAreaBottom" fmla="*/ 5724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06" y="21600"/>
                  </a:lnTo>
                  <a:lnTo>
                    <a:pt x="1459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25d48"/>
                </a:gs>
                <a:gs pos="100000">
                  <a:srgbClr val="b1c9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AutoShape 6"/>
            <p:cNvSpPr/>
            <p:nvPr/>
          </p:nvSpPr>
          <p:spPr>
            <a:xfrm flipH="1" rot="5400000">
              <a:off x="5904720" y="3390840"/>
              <a:ext cx="5790960" cy="75960"/>
            </a:xfrm>
            <a:custGeom>
              <a:avLst/>
              <a:gdLst>
                <a:gd name="textAreaLeft" fmla="*/ 1422000 w 5790960"/>
                <a:gd name="textAreaRight" fmla="*/ 4368960 w 5790960"/>
                <a:gd name="textAreaTop" fmla="*/ 19080 h 75960"/>
                <a:gd name="textAreaBottom" fmla="*/ 5724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06" y="21600"/>
                  </a:lnTo>
                  <a:lnTo>
                    <a:pt x="1459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1c99c"/>
                </a:gs>
                <a:gs pos="100000">
                  <a:srgbClr val="525d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AutoShape 7"/>
          <p:cNvSpPr/>
          <p:nvPr/>
        </p:nvSpPr>
        <p:spPr>
          <a:xfrm>
            <a:off x="2128680" y="2738520"/>
            <a:ext cx="246096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Group 8"/>
          <p:cNvGrpSpPr/>
          <p:nvPr/>
        </p:nvGrpSpPr>
        <p:grpSpPr>
          <a:xfrm>
            <a:off x="0" y="152280"/>
            <a:ext cx="304920" cy="685800"/>
            <a:chOff x="0" y="152280"/>
            <a:chExt cx="304920" cy="685800"/>
          </a:xfrm>
        </p:grpSpPr>
        <p:sp>
          <p:nvSpPr>
            <p:cNvPr id="1081" name="AutoShape 9"/>
            <p:cNvSpPr/>
            <p:nvPr/>
          </p:nvSpPr>
          <p:spPr>
            <a:xfrm>
              <a:off x="0" y="152280"/>
              <a:ext cx="304920" cy="685800"/>
            </a:xfrm>
            <a:prstGeom prst="flowChartDelay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AutoShape 10"/>
            <p:cNvSpPr/>
            <p:nvPr/>
          </p:nvSpPr>
          <p:spPr>
            <a:xfrm>
              <a:off x="0" y="190440"/>
              <a:ext cx="271440" cy="608040"/>
            </a:xfrm>
            <a:prstGeom prst="flowChartDelay">
              <a:avLst/>
            </a:prstGeom>
            <a:solidFill>
              <a:srgbClr val="00ff99"/>
            </a:solidFill>
            <a:ln w="0">
              <a:noFill/>
            </a:ln>
            <a:effectLst>
              <a:outerShdw dist="17819" dir="2700000" blurRad="0" rotWithShape="0">
                <a:srgbClr val="b1c99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Oval 11"/>
            <p:cNvSpPr/>
            <p:nvPr/>
          </p:nvSpPr>
          <p:spPr>
            <a:xfrm>
              <a:off x="44280" y="415800"/>
              <a:ext cx="152640" cy="1526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AutoShape 12"/>
          <p:cNvSpPr/>
          <p:nvPr/>
        </p:nvSpPr>
        <p:spPr>
          <a:xfrm>
            <a:off x="152280" y="6172200"/>
            <a:ext cx="457200" cy="7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13"/>
          <p:cNvSpPr/>
          <p:nvPr/>
        </p:nvSpPr>
        <p:spPr>
          <a:xfrm>
            <a:off x="152280" y="6324480"/>
            <a:ext cx="457200" cy="7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AutoShape 14"/>
          <p:cNvSpPr/>
          <p:nvPr/>
        </p:nvSpPr>
        <p:spPr>
          <a:xfrm>
            <a:off x="152280" y="6477120"/>
            <a:ext cx="457200" cy="7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Group 20"/>
          <p:cNvGrpSpPr/>
          <p:nvPr/>
        </p:nvGrpSpPr>
        <p:grpSpPr>
          <a:xfrm>
            <a:off x="914400" y="3733920"/>
            <a:ext cx="7848720" cy="2438280"/>
            <a:chOff x="914400" y="3733920"/>
            <a:chExt cx="7848720" cy="2438280"/>
          </a:xfrm>
        </p:grpSpPr>
        <p:sp>
          <p:nvSpPr>
            <p:cNvPr id="1088" name="Line 21"/>
            <p:cNvSpPr/>
            <p:nvPr/>
          </p:nvSpPr>
          <p:spPr>
            <a:xfrm>
              <a:off x="914400" y="3733920"/>
              <a:ext cx="7848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Group 22"/>
            <p:cNvGrpSpPr/>
            <p:nvPr/>
          </p:nvGrpSpPr>
          <p:grpSpPr>
            <a:xfrm>
              <a:off x="8238960" y="6019920"/>
              <a:ext cx="262080" cy="152280"/>
              <a:chOff x="8238960" y="6019920"/>
              <a:chExt cx="262080" cy="152280"/>
            </a:xfrm>
          </p:grpSpPr>
          <p:sp>
            <p:nvSpPr>
              <p:cNvPr id="1090" name="Rectangle 23"/>
              <p:cNvSpPr/>
              <p:nvPr/>
            </p:nvSpPr>
            <p:spPr>
              <a:xfrm>
                <a:off x="8238960" y="6154200"/>
                <a:ext cx="52920" cy="1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24"/>
              <p:cNvSpPr/>
              <p:nvPr/>
            </p:nvSpPr>
            <p:spPr>
              <a:xfrm>
                <a:off x="8307360" y="6121440"/>
                <a:ext cx="52560" cy="50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25"/>
              <p:cNvSpPr/>
              <p:nvPr/>
            </p:nvSpPr>
            <p:spPr>
              <a:xfrm>
                <a:off x="8377560" y="6070320"/>
                <a:ext cx="52920" cy="101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26"/>
              <p:cNvSpPr/>
              <p:nvPr/>
            </p:nvSpPr>
            <p:spPr>
              <a:xfrm>
                <a:off x="8448120" y="6019920"/>
                <a:ext cx="5292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Freeform 27"/>
            <p:cNvSpPr/>
            <p:nvPr/>
          </p:nvSpPr>
          <p:spPr>
            <a:xfrm>
              <a:off x="8120160" y="6019920"/>
              <a:ext cx="75960" cy="1522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144"/>
                  </a:moveTo>
                  <a:lnTo>
                    <a:pt x="96" y="144"/>
                  </a:lnTo>
                  <a:lnTo>
                    <a:pt x="240" y="0"/>
                  </a:lnTo>
                  <a:lnTo>
                    <a:pt x="240" y="384"/>
                  </a:lnTo>
                  <a:lnTo>
                    <a:pt x="96" y="240"/>
                  </a:lnTo>
                  <a:lnTo>
                    <a:pt x="0" y="24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5" name="Group 28"/>
            <p:cNvGrpSpPr/>
            <p:nvPr/>
          </p:nvGrpSpPr>
          <p:grpSpPr>
            <a:xfrm>
              <a:off x="8577360" y="5867280"/>
              <a:ext cx="109440" cy="304920"/>
              <a:chOff x="8577360" y="5867280"/>
              <a:chExt cx="109440" cy="304920"/>
            </a:xfrm>
          </p:grpSpPr>
          <p:sp>
            <p:nvSpPr>
              <p:cNvPr id="1096" name="Freeform 29"/>
              <p:cNvSpPr/>
              <p:nvPr/>
            </p:nvSpPr>
            <p:spPr>
              <a:xfrm>
                <a:off x="8577360" y="5867280"/>
                <a:ext cx="109440" cy="304920"/>
              </a:xfrm>
              <a:custGeom>
                <a:avLst/>
                <a:gdLst/>
                <a:ahLst/>
                <a:rect l="l" t="t" r="r" b="b"/>
                <a:pathLst>
                  <a:path w="144" h="264">
                    <a:moveTo>
                      <a:pt x="0" y="264"/>
                    </a:moveTo>
                    <a:lnTo>
                      <a:pt x="0" y="34"/>
                    </a:lnTo>
                    <a:lnTo>
                      <a:pt x="36" y="34"/>
                    </a:lnTo>
                    <a:lnTo>
                      <a:pt x="36" y="0"/>
                    </a:lnTo>
                    <a:lnTo>
                      <a:pt x="108" y="0"/>
                    </a:lnTo>
                    <a:lnTo>
                      <a:pt x="108" y="34"/>
                    </a:lnTo>
                    <a:lnTo>
                      <a:pt x="144" y="34"/>
                    </a:lnTo>
                    <a:lnTo>
                      <a:pt x="144" y="264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Freeform 30"/>
              <p:cNvSpPr/>
              <p:nvPr/>
            </p:nvSpPr>
            <p:spPr>
              <a:xfrm>
                <a:off x="8577360" y="601992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lnTo>
                      <a:pt x="0" y="48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ftr" idx="49"/>
          </p:nvPr>
        </p:nvSpPr>
        <p:spPr>
          <a:xfrm>
            <a:off x="2133360" y="6244920"/>
            <a:ext cx="52578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 type="sldNum" idx="50"/>
          </p:nvPr>
        </p:nvSpPr>
        <p:spPr>
          <a:xfrm>
            <a:off x="7543440" y="6244920"/>
            <a:ext cx="11430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255E-10B7-489F-93A5-019DA2E5B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 type="dt" idx="51"/>
          </p:nvPr>
        </p:nvSpPr>
        <p:spPr>
          <a:xfrm>
            <a:off x="91404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34F8-9A9F-4593-82C2-EFCB9D30EF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066680" y="1459080"/>
            <a:ext cx="8077320" cy="5398920"/>
          </a:xfrm>
          <a:prstGeom prst="rect">
            <a:avLst/>
          </a:prstGeom>
          <a:gradFill rotWithShape="0">
            <a:gsLst>
              <a:gs pos="0">
                <a:srgbClr val="060833"/>
              </a:gs>
              <a:gs pos="100000">
                <a:srgbClr val="1822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1447920"/>
            <a:ext cx="1066680" cy="5410080"/>
          </a:xfrm>
          <a:prstGeom prst="rect">
            <a:avLst/>
          </a:prstGeom>
          <a:gradFill rotWithShape="0">
            <a:gsLst>
              <a:gs pos="0">
                <a:srgbClr val="0305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4A44-EBDA-469A-8EBE-0D415F6EE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0" y="355680"/>
            <a:ext cx="6172200" cy="2438280"/>
            <a:chOff x="0" y="355680"/>
            <a:chExt cx="6172200" cy="2438280"/>
          </a:xfrm>
        </p:grpSpPr>
        <p:sp>
          <p:nvSpPr>
            <p:cNvPr id="110" name="Oval 8"/>
            <p:cNvSpPr/>
            <p:nvPr/>
          </p:nvSpPr>
          <p:spPr>
            <a:xfrm>
              <a:off x="789120" y="114444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80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Oval 9"/>
            <p:cNvSpPr/>
            <p:nvPr/>
          </p:nvSpPr>
          <p:spPr>
            <a:xfrm>
              <a:off x="942840" y="131112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144144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076400" y="35568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1144440" y="144144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Group 4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56" name="Group 5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57" name="Oval 6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Oval 7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7c8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Oval 8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ccf"/>
                    </a:gs>
                    <a:gs pos="100000">
                      <a:srgbClr val="0088e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Oval 9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Oval 10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Oval 11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7c8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Oval 12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Oval 13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7cc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Oval 14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15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Oval 16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17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Oval 18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19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20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21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22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23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24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4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Oval 53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Group 54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206" name="Oval 55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Oval 56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88ce5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57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58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d7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59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80d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60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4dd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1F09-DAFA-4500-B466-B9518F167E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259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4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261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0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20720" indent="-2772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08440" indent="-2214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551960" indent="-2214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EE45-A7D5-46DA-845A-53A9F255F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0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1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3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5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5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0D4B-E9DF-407F-9D16-4100147318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2DBB-7C1B-4240-81C7-AF8F41AC1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475" name="AutoShape 3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4949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4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5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78" name="AutoShape 6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5712"/>
                </a:gs>
                <a:gs pos="50000">
                  <a:srgbClr val="ff7518"/>
                </a:gs>
                <a:gs pos="100000">
                  <a:srgbClr val="bd5712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AutoShape 7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22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2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2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4BD2-57D8-4B32-A53E-7527EA173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14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762120" y="1828080"/>
            <a:ext cx="8076960" cy="4801320"/>
            <a:chOff x="762120" y="1828080"/>
            <a:chExt cx="8076960" cy="4801320"/>
          </a:xfrm>
        </p:grpSpPr>
        <p:sp>
          <p:nvSpPr>
            <p:cNvPr id="524" name="AutoShape 3"/>
            <p:cNvSpPr/>
            <p:nvPr/>
          </p:nvSpPr>
          <p:spPr>
            <a:xfrm>
              <a:off x="762120" y="1828800"/>
              <a:ext cx="8076960" cy="4800600"/>
            </a:xfrm>
            <a:prstGeom prst="roundRect">
              <a:avLst>
                <a:gd name="adj" fmla="val 2699"/>
              </a:avLst>
            </a:prstGeom>
            <a:solidFill>
              <a:srgbClr val="b1c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 rot="16200000">
              <a:off x="-1485720" y="4228920"/>
              <a:ext cx="4572000" cy="75960"/>
            </a:xfrm>
            <a:custGeom>
              <a:avLst/>
              <a:gdLst>
                <a:gd name="textAreaLeft" fmla="*/ 1122480 w 4572000"/>
                <a:gd name="textAreaRight" fmla="*/ 3449880 w 4572000"/>
                <a:gd name="textAreaTop" fmla="*/ 19080 h 75960"/>
                <a:gd name="textAreaBottom" fmla="*/ 5724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06" y="21600"/>
                  </a:lnTo>
                  <a:lnTo>
                    <a:pt x="1459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25d48"/>
                </a:gs>
                <a:gs pos="100000">
                  <a:srgbClr val="b1c9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5"/>
            <p:cNvSpPr/>
            <p:nvPr/>
          </p:nvSpPr>
          <p:spPr>
            <a:xfrm flipH="1" rot="5400000">
              <a:off x="6476400" y="4190760"/>
              <a:ext cx="4647960" cy="75960"/>
            </a:xfrm>
            <a:custGeom>
              <a:avLst/>
              <a:gdLst>
                <a:gd name="textAreaLeft" fmla="*/ 1141200 w 4647960"/>
                <a:gd name="textAreaRight" fmla="*/ 3506760 w 4647960"/>
                <a:gd name="textAreaTop" fmla="*/ 19080 h 75960"/>
                <a:gd name="textAreaBottom" fmla="*/ 5724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06" y="21600"/>
                  </a:lnTo>
                  <a:lnTo>
                    <a:pt x="1459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1c99c"/>
                </a:gs>
                <a:gs pos="100000">
                  <a:srgbClr val="525d4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AutoShape 6"/>
            <p:cNvSpPr/>
            <p:nvPr/>
          </p:nvSpPr>
          <p:spPr>
            <a:xfrm flipV="1" rot="5400000">
              <a:off x="4724280" y="-2134440"/>
              <a:ext cx="152280" cy="807696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25d48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Group 7"/>
          <p:cNvGrpSpPr/>
          <p:nvPr/>
        </p:nvGrpSpPr>
        <p:grpSpPr>
          <a:xfrm>
            <a:off x="762120" y="380880"/>
            <a:ext cx="8076960" cy="1143000"/>
            <a:chOff x="762120" y="380880"/>
            <a:chExt cx="8076960" cy="1143000"/>
          </a:xfrm>
        </p:grpSpPr>
        <p:sp>
          <p:nvSpPr>
            <p:cNvPr id="529" name="AutoShape 8"/>
            <p:cNvSpPr/>
            <p:nvPr/>
          </p:nvSpPr>
          <p:spPr>
            <a:xfrm>
              <a:off x="762120" y="380880"/>
              <a:ext cx="8076960" cy="1143000"/>
            </a:xfrm>
            <a:prstGeom prst="roundRect">
              <a:avLst>
                <a:gd name="adj" fmla="val 12083"/>
              </a:avLst>
            </a:prstGeom>
            <a:gradFill rotWithShape="0">
              <a:gsLst>
                <a:gs pos="0">
                  <a:srgbClr val="b1c99c"/>
                </a:gs>
                <a:gs pos="100000">
                  <a:srgbClr val="99ad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9"/>
            <p:cNvSpPr/>
            <p:nvPr/>
          </p:nvSpPr>
          <p:spPr>
            <a:xfrm flipV="1" rot="5400000">
              <a:off x="4724280" y="-3581280"/>
              <a:ext cx="152640" cy="807696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160 h 8076960"/>
                <a:gd name="textAreaBottom" fmla="*/ 8020800 h 807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51"/>
                    <a:pt x="0" y="301"/>
                  </a:cubicBezTo>
                  <a:lnTo>
                    <a:pt x="0" y="21299"/>
                  </a:lnTo>
                  <a:cubicBezTo>
                    <a:pt x="0" y="21450"/>
                    <a:pt x="10800" y="21600"/>
                    <a:pt x="21600" y="21600"/>
                  </a:cubicBezTo>
                </a:path>
              </a:pathLst>
            </a:custGeom>
            <a:gradFill rotWithShape="0">
              <a:gsLst>
                <a:gs pos="0">
                  <a:srgbClr val="525d48"/>
                </a:gs>
                <a:gs pos="100000">
                  <a:srgbClr val="b1c9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AutoShape 10"/>
          <p:cNvSpPr/>
          <p:nvPr/>
        </p:nvSpPr>
        <p:spPr>
          <a:xfrm>
            <a:off x="2128680" y="2738520"/>
            <a:ext cx="246096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11"/>
          <p:cNvGrpSpPr/>
          <p:nvPr/>
        </p:nvGrpSpPr>
        <p:grpSpPr>
          <a:xfrm>
            <a:off x="152280" y="6172200"/>
            <a:ext cx="457200" cy="380880"/>
            <a:chOff x="152280" y="6172200"/>
            <a:chExt cx="457200" cy="380880"/>
          </a:xfrm>
        </p:grpSpPr>
        <p:sp>
          <p:nvSpPr>
            <p:cNvPr id="533" name="AutoShape 12"/>
            <p:cNvSpPr/>
            <p:nvPr/>
          </p:nvSpPr>
          <p:spPr>
            <a:xfrm>
              <a:off x="152280" y="6172200"/>
              <a:ext cx="457200" cy="7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AutoShape 13"/>
            <p:cNvSpPr/>
            <p:nvPr/>
          </p:nvSpPr>
          <p:spPr>
            <a:xfrm>
              <a:off x="152280" y="6324480"/>
              <a:ext cx="457200" cy="7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AutoShape 14"/>
            <p:cNvSpPr/>
            <p:nvPr/>
          </p:nvSpPr>
          <p:spPr>
            <a:xfrm>
              <a:off x="152280" y="6477120"/>
              <a:ext cx="457200" cy="75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ftr" idx="25"/>
          </p:nvPr>
        </p:nvSpPr>
        <p:spPr>
          <a:xfrm>
            <a:off x="2133360" y="6248520"/>
            <a:ext cx="52578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Num" idx="26"/>
          </p:nvPr>
        </p:nvSpPr>
        <p:spPr>
          <a:xfrm>
            <a:off x="7467120" y="6308280"/>
            <a:ext cx="12193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10AC-7791-41D8-9C43-E9C32B9A7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dt" idx="27"/>
          </p:nvPr>
        </p:nvSpPr>
        <p:spPr>
          <a:xfrm>
            <a:off x="91404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19"/>
          <p:cNvGrpSpPr/>
          <p:nvPr/>
        </p:nvGrpSpPr>
        <p:grpSpPr>
          <a:xfrm>
            <a:off x="914400" y="6019920"/>
            <a:ext cx="7772400" cy="304560"/>
            <a:chOff x="914400" y="6019920"/>
            <a:chExt cx="7772400" cy="304560"/>
          </a:xfrm>
        </p:grpSpPr>
        <p:sp>
          <p:nvSpPr>
            <p:cNvPr id="541" name="Line 20"/>
            <p:cNvSpPr/>
            <p:nvPr/>
          </p:nvSpPr>
          <p:spPr>
            <a:xfrm>
              <a:off x="914400" y="6172200"/>
              <a:ext cx="5943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21"/>
            <p:cNvGrpSpPr/>
            <p:nvPr/>
          </p:nvGrpSpPr>
          <p:grpSpPr>
            <a:xfrm>
              <a:off x="8238960" y="6172200"/>
              <a:ext cx="262080" cy="152280"/>
              <a:chOff x="8238960" y="6172200"/>
              <a:chExt cx="262080" cy="152280"/>
            </a:xfrm>
          </p:grpSpPr>
          <p:sp>
            <p:nvSpPr>
              <p:cNvPr id="543" name="Rectangle 22"/>
              <p:cNvSpPr/>
              <p:nvPr/>
            </p:nvSpPr>
            <p:spPr>
              <a:xfrm>
                <a:off x="8238960" y="6306480"/>
                <a:ext cx="52920" cy="1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Rectangle 23"/>
              <p:cNvSpPr/>
              <p:nvPr/>
            </p:nvSpPr>
            <p:spPr>
              <a:xfrm>
                <a:off x="8307360" y="6273720"/>
                <a:ext cx="52560" cy="50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24"/>
              <p:cNvSpPr/>
              <p:nvPr/>
            </p:nvSpPr>
            <p:spPr>
              <a:xfrm>
                <a:off x="8377560" y="6222600"/>
                <a:ext cx="52920" cy="101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Rectangle 25"/>
              <p:cNvSpPr/>
              <p:nvPr/>
            </p:nvSpPr>
            <p:spPr>
              <a:xfrm>
                <a:off x="8448120" y="6172200"/>
                <a:ext cx="5292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Freeform 26"/>
            <p:cNvSpPr/>
            <p:nvPr/>
          </p:nvSpPr>
          <p:spPr>
            <a:xfrm>
              <a:off x="8120160" y="6172200"/>
              <a:ext cx="75960" cy="1522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144"/>
                  </a:moveTo>
                  <a:lnTo>
                    <a:pt x="96" y="144"/>
                  </a:lnTo>
                  <a:lnTo>
                    <a:pt x="240" y="0"/>
                  </a:lnTo>
                  <a:lnTo>
                    <a:pt x="240" y="384"/>
                  </a:lnTo>
                  <a:lnTo>
                    <a:pt x="96" y="240"/>
                  </a:lnTo>
                  <a:lnTo>
                    <a:pt x="0" y="24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Group 27"/>
            <p:cNvGrpSpPr/>
            <p:nvPr/>
          </p:nvGrpSpPr>
          <p:grpSpPr>
            <a:xfrm>
              <a:off x="8577360" y="6019920"/>
              <a:ext cx="109440" cy="304560"/>
              <a:chOff x="8577360" y="6019920"/>
              <a:chExt cx="109440" cy="304560"/>
            </a:xfrm>
          </p:grpSpPr>
          <p:sp>
            <p:nvSpPr>
              <p:cNvPr id="549" name="Freeform 28"/>
              <p:cNvSpPr/>
              <p:nvPr/>
            </p:nvSpPr>
            <p:spPr>
              <a:xfrm>
                <a:off x="8577360" y="6019920"/>
                <a:ext cx="109440" cy="304560"/>
              </a:xfrm>
              <a:custGeom>
                <a:avLst/>
                <a:gdLst/>
                <a:ahLst/>
                <a:rect l="l" t="t" r="r" b="b"/>
                <a:pathLst>
                  <a:path w="144" h="264">
                    <a:moveTo>
                      <a:pt x="0" y="264"/>
                    </a:moveTo>
                    <a:lnTo>
                      <a:pt x="0" y="34"/>
                    </a:lnTo>
                    <a:lnTo>
                      <a:pt x="36" y="34"/>
                    </a:lnTo>
                    <a:lnTo>
                      <a:pt x="36" y="0"/>
                    </a:lnTo>
                    <a:lnTo>
                      <a:pt x="108" y="0"/>
                    </a:lnTo>
                    <a:lnTo>
                      <a:pt x="108" y="34"/>
                    </a:lnTo>
                    <a:lnTo>
                      <a:pt x="144" y="34"/>
                    </a:lnTo>
                    <a:lnTo>
                      <a:pt x="144" y="264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29"/>
              <p:cNvSpPr/>
              <p:nvPr/>
            </p:nvSpPr>
            <p:spPr>
              <a:xfrm>
                <a:off x="8577360" y="6172200"/>
                <a:ext cx="109440" cy="151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lnTo>
                      <a:pt x="0" y="48"/>
                    </a:lnTo>
                    <a:lnTo>
                      <a:pt x="96" y="0"/>
                    </a:lnTo>
                    <a:lnTo>
                      <a:pt x="96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PlaceHolder 5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31"/>
          <p:cNvGrpSpPr/>
          <p:nvPr/>
        </p:nvGrpSpPr>
        <p:grpSpPr>
          <a:xfrm>
            <a:off x="0" y="152280"/>
            <a:ext cx="304920" cy="685800"/>
            <a:chOff x="0" y="152280"/>
            <a:chExt cx="304920" cy="685800"/>
          </a:xfrm>
        </p:grpSpPr>
        <p:sp>
          <p:nvSpPr>
            <p:cNvPr id="553" name="AutoShape 32"/>
            <p:cNvSpPr/>
            <p:nvPr/>
          </p:nvSpPr>
          <p:spPr>
            <a:xfrm>
              <a:off x="0" y="152280"/>
              <a:ext cx="304920" cy="685800"/>
            </a:xfrm>
            <a:prstGeom prst="flowChartDelay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AutoShape 33"/>
            <p:cNvSpPr/>
            <p:nvPr/>
          </p:nvSpPr>
          <p:spPr>
            <a:xfrm>
              <a:off x="0" y="190440"/>
              <a:ext cx="271440" cy="608040"/>
            </a:xfrm>
            <a:prstGeom prst="flowChartDelay">
              <a:avLst/>
            </a:prstGeom>
            <a:solidFill>
              <a:srgbClr val="00ff99"/>
            </a:solidFill>
            <a:ln w="0">
              <a:noFill/>
            </a:ln>
            <a:effectLst>
              <a:outerShdw dist="17819" dir="2700000" blurRad="0" rotWithShape="0">
                <a:srgbClr val="b1c99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34"/>
            <p:cNvSpPr/>
            <p:nvPr/>
          </p:nvSpPr>
          <p:spPr>
            <a:xfrm>
              <a:off x="44280" y="415800"/>
              <a:ext cx="152640" cy="1526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ASS AND WEIGH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1371600" y="6576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1" name="Picture 4" descr=""/>
          <p:cNvPicPr/>
          <p:nvPr/>
        </p:nvPicPr>
        <p:blipFill>
          <a:blip r:embed="rId1"/>
          <a:stretch/>
        </p:blipFill>
        <p:spPr>
          <a:xfrm>
            <a:off x="6934320" y="762120"/>
            <a:ext cx="1904760" cy="253980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5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854360" cy="137160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6" descr=""/>
          <p:cNvPicPr/>
          <p:nvPr/>
        </p:nvPicPr>
        <p:blipFill>
          <a:blip r:embed="rId3"/>
          <a:stretch/>
        </p:blipFill>
        <p:spPr>
          <a:xfrm>
            <a:off x="3276720" y="4191120"/>
            <a:ext cx="2463840" cy="189216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7" descr=""/>
          <p:cNvPicPr/>
          <p:nvPr/>
        </p:nvPicPr>
        <p:blipFill>
          <a:blip r:embed="rId4"/>
          <a:stretch/>
        </p:blipFill>
        <p:spPr>
          <a:xfrm>
            <a:off x="6172200" y="4495680"/>
            <a:ext cx="2463840" cy="1727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8" descr=""/>
          <p:cNvPicPr/>
          <p:nvPr/>
        </p:nvPicPr>
        <p:blipFill>
          <a:blip r:embed="rId5"/>
          <a:stretch/>
        </p:blipFill>
        <p:spPr>
          <a:xfrm>
            <a:off x="304920" y="3276720"/>
            <a:ext cx="21333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460ee"/>
                </a:solidFill>
                <a:latin typeface="Comic Sans MS"/>
              </a:rPr>
              <a:t>DEFINITIONS</a:t>
            </a:r>
            <a:endParaRPr b="1" lang="en-US" sz="5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Mas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the amount of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 object h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Matter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mething that has mass and takes up sp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eight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s the amount of mass of an object, it is dependent upon gravit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Units for Measuring Mas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ss is measured 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gram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kilogr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 paper clip= 1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000g=1 ki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average human adult weighs 75k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Picture 4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2806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Tools for Measuring Mas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**The </a:t>
            </a: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Triple Beam Balanc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the tool we use to measure mass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153" name="Picture 4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42796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How to use a Triple Beam Balanc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5400" y="2819160"/>
            <a:ext cx="82263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ake sure the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alance scale is at zer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Place the object to be weighed on the balance plate and move the largest </a:t>
            </a:r>
            <a:r>
              <a:rPr b="1" i="1" lang="en-US" sz="2800" spc="-1" strike="noStrike">
                <a:solidFill>
                  <a:srgbClr val="eaeaea"/>
                </a:solidFill>
                <a:latin typeface="Comic Sans MS"/>
              </a:rPr>
              <a:t>RIDER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 one notch at a time until the beam drops. Move the rider back one notch until it locks into pla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6" name="Picture 4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2971800" cy="167652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5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23623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-268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Comic Sans M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 Move the next largest rider until the beam drops.  Back it up one notch, and lock it in p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 Move the smallest rider until the beam swings equally above and below the zero ma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0" name="Picture 4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3124440" cy="213336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5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590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-306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DD UP ALL THE NUMBERS AND THAT WILL GIVE YOU THE MASS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*Always remember to write the unit of mass down.   (ex.- kg, g)*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4" name="Picture 4" descr=""/>
          <p:cNvPicPr/>
          <p:nvPr/>
        </p:nvPicPr>
        <p:blipFill>
          <a:blip r:embed="rId1"/>
          <a:stretch/>
        </p:blipFill>
        <p:spPr>
          <a:xfrm>
            <a:off x="2590920" y="4800600"/>
            <a:ext cx="3429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E AND 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S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vs.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ways remains constant                  Depends on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es not depend on gravity              weight=mass x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ight of a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nges if the 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6"/>
          <p:cNvSpPr/>
          <p:nvPr/>
        </p:nvSpPr>
        <p:spPr>
          <a:xfrm>
            <a:off x="4525920" y="1738440"/>
            <a:ext cx="370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Picture 10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2286000" cy="1892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"/>
          <p:cNvPicPr/>
          <p:nvPr/>
        </p:nvPicPr>
        <p:blipFill>
          <a:blip r:embed="rId2"/>
          <a:stretch/>
        </p:blipFill>
        <p:spPr>
          <a:xfrm>
            <a:off x="3048120" y="464832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2" descr=""/>
          <p:cNvPicPr/>
          <p:nvPr/>
        </p:nvPicPr>
        <p:blipFill>
          <a:blip r:embed="rId3"/>
          <a:stretch/>
        </p:blipFill>
        <p:spPr>
          <a:xfrm>
            <a:off x="7010280" y="5410080"/>
            <a:ext cx="1905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Comic Sans MS"/>
              </a:rPr>
              <a:t>THE END</a:t>
            </a:r>
            <a:endParaRPr b="1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1371600" y="64994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 Colby</dc:creator>
  <dc:description/>
  <dc:language>en-US</dc:language>
  <cp:lastModifiedBy>Andrea Colby</cp:lastModifiedBy>
  <dcterms:modified xsi:type="dcterms:W3CDTF">2013-04-08T17:20:22Z</dcterms:modified>
  <cp:revision>2</cp:revision>
  <dc:subject/>
  <dc:title>MASS AND WEIGHT</dc:title>
</cp:coreProperties>
</file>